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7.wmf" ContentType="image/x-wmf"/>
  <Override PartName="/ppt/media/image6.wmf" ContentType="image/x-wmf"/>
  <Override PartName="/ppt/media/image11.png" ContentType="image/png"/>
  <Override PartName="/ppt/media/image10.wmf" ContentType="image/x-wmf"/>
  <Override PartName="/ppt/media/image5.wmf" ContentType="image/x-wmf"/>
  <Override PartName="/ppt/media/image3.wmf" ContentType="image/x-wmf"/>
  <Override PartName="/ppt/media/image24.wmf" ContentType="image/x-wmf"/>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wmf" ContentType="image/x-wmf"/>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18543-3BBD-4E95-B013-831E863F8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689FA-85E1-44A2-B3EF-B5E9917DA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73056-A931-4CBE-8048-3E82B05AF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F157A-6C1C-4FC9-B2F6-E0284062D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2872F-4F32-4D84-9A3B-4C6084D0FD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EFE66-4A04-4B5D-9514-C3BE7E211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7BE18-8D11-42E0-9690-54469961A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9760B-CF48-4C2D-8091-6183E6640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76483-2EC6-4680-AEE0-BEBCDBD0B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6571C-EEDF-4C81-AD72-028047199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5C45F-DD3A-473B-9C3A-5D234AB58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CC6D3-1FDF-470A-9605-DD79A4C21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DB9B1-F0A2-4D0D-90F7-9941218E6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CE3F2-F290-49D9-864A-2E1E9F680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09A19-CEA9-44E0-86B3-D19A36D90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69027-BD81-4757-9F04-D33666AAB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1C3E3-0E75-431D-A43B-2DE6496DB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D61BC-A820-4E47-883B-CD4AAB1E4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966FB-DFBF-42B1-B4DB-14C2BDB00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0A5F9-9F04-4367-ADCF-43C0E3BDB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627E7-4696-4B58-96C5-3F3715EC8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3A7B1-90B4-4918-BF75-49B39AE1A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3CB85-64F7-4084-B679-227B5AC40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931C3-8301-482C-89B5-503A61555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FDD8-F1C1-46A1-A619-98276B62BC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 descr="4098885-m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8F4E-B83C-440F-BA30-97028FB584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343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cy Analysi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t Metering (Quincy)</a:t>
            </a:r>
            <a:endParaRPr b="0" lang="en-US" sz="3200" spc="-1" strike="noStrike">
              <a:solidFill>
                <a:srgbClr val="0000ff"/>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legislation known as the Green Communities Act was recently signed into law in Massachusetts that has made this on-site usage requirement moot. This legislation allows the energy produced at customer-sited generation facilities of up to 2 MW to be sold to the grid as if it were offsetting the energy used at the customer’s meter. Previous Massachusetts law only allowed facilities of up to 60 kW to benefit from net metering while for larger facilities only the portion of the production that coincided with load could be credited at the retail rate. Each municipality can net meter up to 10 MW of generating capacity, provided that no individual unit exceeds 2 MW.</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the legislation, the net metering credit for generation used to offset load at a customer’s meter is credited at a rate equal to the “default service kilowatt-hour charge in the ISO-NE load zone where the customer is locat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08" name="Picture 4" descr=""/>
          <p:cNvPicPr/>
          <p:nvPr/>
        </p:nvPicPr>
        <p:blipFill>
          <a:blip r:embed="rId1"/>
          <a:stretch/>
        </p:blipFill>
        <p:spPr>
          <a:xfrm>
            <a:off x="4572000" y="1828800"/>
            <a:ext cx="4038480" cy="215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nefits of Private Ownership with and without Tax Incentives</a:t>
            </a:r>
            <a:endParaRPr b="0" lang="en-US" sz="3200" spc="-1" strike="noStrike">
              <a:solidFill>
                <a:srgbClr val="0000ff"/>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adjacent graphs show the effects of tax incentives on the cash flow and rate of return earned in a private investor scenario.  The rate of return declines from 9.15% to 3.07%</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xample, the price in the PPA contract would have to increase from $141/MWH to $191/MW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Picture 8" descr=""/>
          <p:cNvPicPr/>
          <p:nvPr/>
        </p:nvPicPr>
        <p:blipFill>
          <a:blip r:embed="rId1"/>
          <a:stretch/>
        </p:blipFill>
        <p:spPr>
          <a:xfrm>
            <a:off x="4726080" y="1600200"/>
            <a:ext cx="3882960" cy="2185920"/>
          </a:xfrm>
          <a:prstGeom prst="rect">
            <a:avLst/>
          </a:prstGeom>
          <a:ln w="0">
            <a:noFill/>
          </a:ln>
        </p:spPr>
      </p:pic>
      <p:pic>
        <p:nvPicPr>
          <p:cNvPr id="112" name="Picture 10" descr=""/>
          <p:cNvPicPr/>
          <p:nvPr/>
        </p:nvPicPr>
        <p:blipFill>
          <a:blip r:embed="rId2"/>
          <a:stretch/>
        </p:blipFill>
        <p:spPr>
          <a:xfrm>
            <a:off x="4724280" y="3938760"/>
            <a:ext cx="3886200" cy="218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ing</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lip Structure</a:t>
            </a:r>
            <a:endParaRPr b="0" lang="en-US" sz="3200" spc="-1" strike="noStrike">
              <a:solidFill>
                <a:srgbClr val="0000ff"/>
              </a:solidFill>
              <a:latin typeface="Arial"/>
            </a:endParaRPr>
          </a:p>
        </p:txBody>
      </p:sp>
      <p:pic>
        <p:nvPicPr>
          <p:cNvPr id="115" name="Picture 3" descr=""/>
          <p:cNvPicPr/>
          <p:nvPr/>
        </p:nvPicPr>
        <p:blipFill>
          <a:blip r:embed="rId1"/>
          <a:stretch/>
        </p:blipFill>
        <p:spPr>
          <a:xfrm>
            <a:off x="1631880" y="1295280"/>
            <a:ext cx="5878440" cy="4876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tails of Tax Flip</a:t>
            </a:r>
            <a:endParaRPr b="0" lang="en-US" sz="3200" spc="-1" strike="noStrike">
              <a:solidFill>
                <a:srgbClr val="0000ff"/>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ow will only arise IF EPIC applies/receives approval to receive credit under Section 48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posed by CSI, the $$ flow of ITC (to Master Tenant) and corresponding investment (from Master Tenant to Landlord) would occur annuall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1MM investment would not be paid as a lump sum before the ITCs are created.  There are other ‘flip’ structures (equity investors) that make the investment on the front-side of projec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Y2008, $337MM was available for Section 48B pro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mission date for 2007-2008 funding closed 10.31.07, with notification of awards targeted for mid-2008.</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ne 2007, the Treasury Department and DOE released revised guidance on the procedures for awarding the tax credits authorized under EPAct 2005 for qualifying advanced coal projects and qualifying gasification projects. Under the revised guidance, applications for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certification received before October 31, 2007, will be acted on in 2008.</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received five applications for projects in five different states before the October 31 deadline. Two applications, requesting $258 million in tax credits, were received for qualifying advanced coal projects costing $4.1 billion, while three applications, requesting $390 million in tax credits, were received for qualifying gasification projects costing $5.0 billion Due to some (potentially conflicting) language regarding the application deadline in IRS 2007-53, I am investigating if there is still a window of opportunity to submit an application for FY2008 fu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n application could be submitted for FY2009 funds (by 10,31,08), if deemed worthy to do so for either the EPIC-HES Ethanol Project (HGL) or other EPIC client projects.  To ensure qualification for a future Section 48B award, EPIC would need to both be carbon capture ready and capture/dispose of its carbon emissions as part of the projec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rtium Investments is interested in making an EPIC investment if/when tax credits can be exchanged for an equity investment.</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fferent Structures for Renewable Projects</a:t>
            </a:r>
            <a:endParaRPr b="0" lang="en-US" sz="3200" spc="-1" strike="noStrike">
              <a:solidFill>
                <a:srgbClr val="0000ff"/>
              </a:solidFill>
              <a:latin typeface="Arial"/>
            </a:endParaRPr>
          </a:p>
        </p:txBody>
      </p:sp>
      <p:pic>
        <p:nvPicPr>
          <p:cNvPr id="119" name="Picture 3" descr=""/>
          <p:cNvPicPr/>
          <p:nvPr/>
        </p:nvPicPr>
        <p:blipFill>
          <a:blip r:embed="rId1"/>
          <a:stretch/>
        </p:blipFill>
        <p:spPr>
          <a:xfrm>
            <a:off x="762120" y="1278000"/>
            <a:ext cx="7466040" cy="4817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asons for Hybrid Analysis</a:t>
            </a:r>
            <a:endParaRPr b="0" lang="en-US" sz="3200" spc="-1" strike="noStrike">
              <a:solidFill>
                <a:srgbClr val="0000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truct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between private investors and tow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ypical partnership with percent of contributions and percent of dividen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contributions and dividends paid at different time period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Benefits and Tax Co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Investors in Wind Farm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ip struc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s to tax investo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Struc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deling of Hybrid Structure</a:t>
            </a:r>
            <a:endParaRPr b="0" lang="en-US" sz="3200" spc="-1" strike="noStrike">
              <a:solidFill>
                <a:srgbClr val="0000ff"/>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Oval 4"/>
          <p:cNvSpPr/>
          <p:nvPr/>
        </p:nvSpPr>
        <p:spPr>
          <a:xfrm>
            <a:off x="3048120" y="1905120"/>
            <a:ext cx="259056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ship</a:t>
            </a:r>
            <a:endParaRPr b="0" lang="en-US" sz="1800" spc="-1" strike="noStrike">
              <a:solidFill>
                <a:srgbClr val="000000"/>
              </a:solidFill>
              <a:latin typeface="Arial"/>
            </a:endParaRPr>
          </a:p>
        </p:txBody>
      </p:sp>
      <p:sp>
        <p:nvSpPr>
          <p:cNvPr id="125" name="Line 5"/>
          <p:cNvSpPr/>
          <p:nvPr/>
        </p:nvSpPr>
        <p:spPr>
          <a:xfrm>
            <a:off x="4343400" y="2666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6"/>
          <p:cNvSpPr/>
          <p:nvPr/>
        </p:nvSpPr>
        <p:spPr>
          <a:xfrm>
            <a:off x="2209680" y="3200400"/>
            <a:ext cx="46483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 and Financ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of Partnership</a:t>
            </a:r>
            <a:endParaRPr b="0" lang="en-US" sz="1800" spc="-1" strike="noStrike">
              <a:solidFill>
                <a:srgbClr val="000000"/>
              </a:solidFill>
              <a:latin typeface="Arial"/>
            </a:endParaRPr>
          </a:p>
        </p:txBody>
      </p:sp>
      <p:sp>
        <p:nvSpPr>
          <p:cNvPr id="127" name="Line 7"/>
          <p:cNvSpPr/>
          <p:nvPr/>
        </p:nvSpPr>
        <p:spPr>
          <a:xfrm>
            <a:off x="2590920" y="4038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Oval 8"/>
          <p:cNvSpPr/>
          <p:nvPr/>
        </p:nvSpPr>
        <p:spPr>
          <a:xfrm>
            <a:off x="1600200" y="4648320"/>
            <a:ext cx="175248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y</a:t>
            </a:r>
            <a:endParaRPr b="0" lang="en-US" sz="1800" spc="-1" strike="noStrike">
              <a:solidFill>
                <a:srgbClr val="000000"/>
              </a:solidFill>
              <a:latin typeface="Arial"/>
            </a:endParaRPr>
          </a:p>
        </p:txBody>
      </p:sp>
      <p:sp>
        <p:nvSpPr>
          <p:cNvPr id="129" name="Rectangle 14"/>
          <p:cNvSpPr/>
          <p:nvPr/>
        </p:nvSpPr>
        <p:spPr>
          <a:xfrm>
            <a:off x="2590920" y="5715000"/>
            <a:ext cx="144756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a:t>
            </a:r>
            <a:endParaRPr b="0" lang="en-US" sz="1800" spc="-1" strike="noStrike">
              <a:solidFill>
                <a:srgbClr val="000000"/>
              </a:solidFill>
              <a:latin typeface="Arial"/>
            </a:endParaRPr>
          </a:p>
        </p:txBody>
      </p:sp>
      <p:sp>
        <p:nvSpPr>
          <p:cNvPr id="130" name="Rectangle 15"/>
          <p:cNvSpPr/>
          <p:nvPr/>
        </p:nvSpPr>
        <p:spPr>
          <a:xfrm>
            <a:off x="1066680" y="5715000"/>
            <a:ext cx="11430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a:t>
            </a:r>
            <a:endParaRPr b="0" lang="en-US" sz="1800" spc="-1" strike="noStrike">
              <a:solidFill>
                <a:srgbClr val="000000"/>
              </a:solidFill>
              <a:latin typeface="Arial"/>
            </a:endParaRPr>
          </a:p>
        </p:txBody>
      </p:sp>
      <p:sp>
        <p:nvSpPr>
          <p:cNvPr id="131" name="Rectangle 17"/>
          <p:cNvSpPr/>
          <p:nvPr/>
        </p:nvSpPr>
        <p:spPr>
          <a:xfrm>
            <a:off x="6553080" y="5715000"/>
            <a:ext cx="1371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a:t>
            </a:r>
            <a:endParaRPr b="0" lang="en-US" sz="1800" spc="-1" strike="noStrike">
              <a:solidFill>
                <a:srgbClr val="000000"/>
              </a:solidFill>
              <a:latin typeface="Arial"/>
            </a:endParaRPr>
          </a:p>
        </p:txBody>
      </p:sp>
      <p:sp>
        <p:nvSpPr>
          <p:cNvPr id="132" name="Rectangle 18"/>
          <p:cNvSpPr/>
          <p:nvPr/>
        </p:nvSpPr>
        <p:spPr>
          <a:xfrm>
            <a:off x="5029200" y="5715000"/>
            <a:ext cx="10666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a:t>
            </a:r>
            <a:endParaRPr b="0" lang="en-US" sz="1800" spc="-1" strike="noStrike">
              <a:solidFill>
                <a:srgbClr val="000000"/>
              </a:solidFill>
              <a:latin typeface="Arial"/>
            </a:endParaRPr>
          </a:p>
        </p:txBody>
      </p:sp>
      <p:sp>
        <p:nvSpPr>
          <p:cNvPr id="133" name="Oval 19"/>
          <p:cNvSpPr/>
          <p:nvPr/>
        </p:nvSpPr>
        <p:spPr>
          <a:xfrm>
            <a:off x="5562720" y="4648320"/>
            <a:ext cx="175248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wn</a:t>
            </a:r>
            <a:endParaRPr b="0" lang="en-US" sz="1800" spc="-1" strike="noStrike">
              <a:solidFill>
                <a:srgbClr val="000000"/>
              </a:solidFill>
              <a:latin typeface="Arial"/>
            </a:endParaRPr>
          </a:p>
        </p:txBody>
      </p:sp>
      <p:sp>
        <p:nvSpPr>
          <p:cNvPr id="134" name="Line 20"/>
          <p:cNvSpPr/>
          <p:nvPr/>
        </p:nvSpPr>
        <p:spPr>
          <a:xfrm flipH="1">
            <a:off x="1676520" y="22860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22"/>
          <p:cNvSpPr/>
          <p:nvPr/>
        </p:nvSpPr>
        <p:spPr>
          <a:xfrm>
            <a:off x="1219320" y="2286000"/>
            <a:ext cx="60948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24"/>
          <p:cNvSpPr/>
          <p:nvPr/>
        </p:nvSpPr>
        <p:spPr>
          <a:xfrm>
            <a:off x="6477120" y="4038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25"/>
          <p:cNvSpPr/>
          <p:nvPr/>
        </p:nvSpPr>
        <p:spPr>
          <a:xfrm>
            <a:off x="533520" y="1828800"/>
            <a:ext cx="1143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Dep</a:t>
            </a:r>
            <a:endParaRPr b="0" lang="en-US" sz="1800" spc="-1" strike="noStrike">
              <a:solidFill>
                <a:srgbClr val="000000"/>
              </a:solidFill>
              <a:latin typeface="Arial"/>
            </a:endParaRPr>
          </a:p>
        </p:txBody>
      </p:sp>
      <p:sp>
        <p:nvSpPr>
          <p:cNvPr id="138" name="Line 27"/>
          <p:cNvSpPr/>
          <p:nvPr/>
        </p:nvSpPr>
        <p:spPr>
          <a:xfrm flipV="1">
            <a:off x="2057400" y="243792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8"/>
          <p:cNvSpPr/>
          <p:nvPr/>
        </p:nvSpPr>
        <p:spPr>
          <a:xfrm flipV="1">
            <a:off x="7086600" y="228564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9"/>
          <p:cNvSpPr/>
          <p:nvPr/>
        </p:nvSpPr>
        <p:spPr>
          <a:xfrm flipH="1">
            <a:off x="5791320" y="22860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30"/>
          <p:cNvSpPr/>
          <p:nvPr/>
        </p:nvSpPr>
        <p:spPr>
          <a:xfrm>
            <a:off x="7391520" y="3048120"/>
            <a:ext cx="10666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ibutions</a:t>
            </a:r>
            <a:endParaRPr b="0" lang="en-US" sz="1000" spc="-1" strike="noStrike">
              <a:solidFill>
                <a:srgbClr val="000000"/>
              </a:solidFill>
              <a:latin typeface="Arial"/>
            </a:endParaRPr>
          </a:p>
        </p:txBody>
      </p:sp>
      <p:sp>
        <p:nvSpPr>
          <p:cNvPr id="142" name="Line 31"/>
          <p:cNvSpPr/>
          <p:nvPr/>
        </p:nvSpPr>
        <p:spPr>
          <a:xfrm flipH="1">
            <a:off x="1904760" y="54100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32"/>
          <p:cNvSpPr/>
          <p:nvPr/>
        </p:nvSpPr>
        <p:spPr>
          <a:xfrm>
            <a:off x="2971800" y="53341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33"/>
          <p:cNvSpPr/>
          <p:nvPr/>
        </p:nvSpPr>
        <p:spPr>
          <a:xfrm flipH="1">
            <a:off x="5714640" y="541008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5"/>
          <p:cNvSpPr/>
          <p:nvPr/>
        </p:nvSpPr>
        <p:spPr>
          <a:xfrm>
            <a:off x="6934320" y="54100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37"/>
          <p:cNvSpPr/>
          <p:nvPr/>
        </p:nvSpPr>
        <p:spPr>
          <a:xfrm flipV="1">
            <a:off x="2057400" y="26668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 of Hybrid Structure</a:t>
            </a:r>
            <a:endParaRPr b="0" lang="en-US" sz="3200" spc="-1" strike="noStrike">
              <a:solidFill>
                <a:srgbClr val="0000ff"/>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ions to Partnershi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a:t>
            </a:r>
            <a:r>
              <a:rPr b="0" lang="en-US" sz="2000" spc="-1" strike="noStrike">
                <a:solidFill>
                  <a:srgbClr val="000000"/>
                </a:solidFill>
                <a:latin typeface="Arial"/>
              </a:rPr>
              <a:t>	</a:t>
            </a:r>
            <a:r>
              <a:rPr b="0" lang="en-US" sz="2000" spc="-1" strike="noStrike">
                <a:solidFill>
                  <a:srgbClr val="000000"/>
                </a:solidFill>
                <a:latin typeface="Arial"/>
              </a:rPr>
              <a:t>8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a:t>
            </a:r>
            <a:r>
              <a:rPr b="0" lang="en-US" sz="2000" spc="-1" strike="noStrike">
                <a:solidFill>
                  <a:srgbClr val="000000"/>
                </a:solidFill>
                <a:latin typeface="Arial"/>
              </a:rPr>
              <a:t>	</a:t>
            </a:r>
            <a:r>
              <a:rPr b="0" lang="en-US" sz="2000" spc="-1" strike="noStrike">
                <a:solidFill>
                  <a:srgbClr val="000000"/>
                </a:solidFill>
                <a:latin typeface="Arial"/>
              </a:rPr>
              <a:t>2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from Partnership before year 11</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a:t>
            </a:r>
            <a:r>
              <a:rPr b="0" lang="en-US" sz="2000" spc="-1" strike="noStrike">
                <a:solidFill>
                  <a:srgbClr val="000000"/>
                </a:solidFill>
                <a:latin typeface="Arial"/>
              </a:rPr>
              <a:t>	</a:t>
            </a:r>
            <a:r>
              <a:rPr b="0" lang="en-US" sz="2000" spc="-1" strike="noStrike">
                <a:solidFill>
                  <a:srgbClr val="000000"/>
                </a:solidFill>
                <a:latin typeface="Arial"/>
              </a:rPr>
              <a:t>9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a:t>
            </a: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from Partnership after year 10</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a:t>
            </a: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a:t>
            </a:r>
            <a:r>
              <a:rPr b="0" lang="en-US" sz="2000" spc="-1" strike="noStrike">
                <a:solidFill>
                  <a:srgbClr val="000000"/>
                </a:solidFill>
                <a:latin typeface="Arial"/>
              </a:rPr>
              <a:t>	</a:t>
            </a:r>
            <a:r>
              <a:rPr b="0" lang="en-US" sz="2000" spc="-1" strike="noStrike">
                <a:solidFill>
                  <a:srgbClr val="000000"/>
                </a:solidFill>
                <a:latin typeface="Arial"/>
              </a:rPr>
              <a:t>9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 the town partnership contributions through working with the contract level and with private IRR similar to private investor c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ength of Pre-Flip Period</a:t>
            </a:r>
            <a:endParaRPr b="0" lang="en-US" sz="3200" spc="-1" strike="noStrike">
              <a:solidFill>
                <a:srgbClr val="0000ff"/>
              </a:solidFill>
              <a:latin typeface="Arial"/>
            </a:endParaRPr>
          </a:p>
        </p:txBody>
      </p:sp>
      <p:sp>
        <p:nvSpPr>
          <p:cNvPr id="15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ssue arises in structuring a hybrid analysis as to whether the first pre-flip period should be 10 years to cover the PTC payments or should it be 5 years to cover the accelerated depreciation (in which case some of the PTC benefits are given up).</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jacent charts demonstrate that a five year flip structure has more value than a ten year flip structur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1" name="Picture 4" descr=""/>
          <p:cNvPicPr/>
          <p:nvPr/>
        </p:nvPicPr>
        <p:blipFill>
          <a:blip r:embed="rId1"/>
          <a:stretch/>
        </p:blipFill>
        <p:spPr>
          <a:xfrm>
            <a:off x="5210280" y="1959120"/>
            <a:ext cx="2914560" cy="1466640"/>
          </a:xfrm>
          <a:prstGeom prst="rect">
            <a:avLst/>
          </a:prstGeom>
          <a:ln w="0">
            <a:noFill/>
          </a:ln>
        </p:spPr>
      </p:pic>
      <p:pic>
        <p:nvPicPr>
          <p:cNvPr id="152" name="Picture 9" descr=""/>
          <p:cNvPicPr/>
          <p:nvPr/>
        </p:nvPicPr>
        <p:blipFill>
          <a:blip r:embed="rId2"/>
          <a:stretch/>
        </p:blipFill>
        <p:spPr>
          <a:xfrm>
            <a:off x="5181480" y="4191120"/>
            <a:ext cx="2914920" cy="1466640"/>
          </a:xfrm>
          <a:prstGeom prst="rect">
            <a:avLst/>
          </a:prstGeom>
          <a:ln w="0">
            <a:noFill/>
          </a:ln>
        </p:spPr>
      </p:pic>
      <p:sp>
        <p:nvSpPr>
          <p:cNvPr id="153" name="Text Box 11"/>
          <p:cNvSpPr/>
          <p:nvPr/>
        </p:nvSpPr>
        <p:spPr>
          <a:xfrm>
            <a:off x="5257800" y="365760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Year Flip</a:t>
            </a:r>
            <a:endParaRPr b="0" lang="en-US" sz="1800" spc="-1" strike="noStrike">
              <a:solidFill>
                <a:srgbClr val="000000"/>
              </a:solidFill>
              <a:latin typeface="Arial"/>
            </a:endParaRPr>
          </a:p>
        </p:txBody>
      </p:sp>
      <p:sp>
        <p:nvSpPr>
          <p:cNvPr id="154" name="Text Box 12"/>
          <p:cNvSpPr/>
          <p:nvPr/>
        </p:nvSpPr>
        <p:spPr>
          <a:xfrm>
            <a:off x="5257800" y="144792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 Year F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icing Support</a:t>
            </a:r>
            <a:endParaRPr b="0" lang="en-US" sz="3200" spc="-1" strike="noStrike">
              <a:solidFill>
                <a:srgbClr val="0000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mechanisms can be used to support wind pow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 fixed tariff (usually set somewhere between retail and wholesale prices for electricity and paid for by the local electricity company to the wind farm) for a number of year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certificates" provided to renewable energy producers and which can be traded - and which have value because producers of "dirty" electricity are forced by law to purchase growing amounts of such certificates each year to compensate for the polluting nature of their product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subsidies (a one off amount paid at the onset of the project, or over a number of years) to compensate for higher initial investment cos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iderations in Developing Hybrid Structure</a:t>
            </a:r>
            <a:endParaRPr b="0" lang="en-US" sz="3200" spc="-1" strike="noStrike">
              <a:solidFill>
                <a:srgbClr val="0000ff"/>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from principles in earlier discussion, the amount of contributions to the partnership should consid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IRR for the town portion must be greater than the municipal interest rate, otherwise it is not possible to repay loa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ity IRR should be just sufficient to induce investment and the debt coverage should be aggressive.  This can be accomplished by adjusting the contract pr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making the structuring adjustments, evaluate the savings relative to town savings on a standalone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 of Hybrid Structure</a:t>
            </a:r>
            <a:endParaRPr b="0" lang="en-US" sz="3200" spc="-1" strike="noStrike">
              <a:solidFill>
                <a:srgbClr val="0000ff"/>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ions to Partnershi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a:t>
            </a:r>
            <a:r>
              <a:rPr b="0" lang="en-US" sz="2000" spc="-1" strike="noStrike">
                <a:solidFill>
                  <a:srgbClr val="000000"/>
                </a:solidFill>
                <a:latin typeface="Arial"/>
              </a:rPr>
              <a:t>	</a:t>
            </a:r>
            <a:r>
              <a:rPr b="0" lang="en-US" sz="2000" spc="-1" strike="noStrike">
                <a:solidFill>
                  <a:srgbClr val="000000"/>
                </a:solidFill>
                <a:latin typeface="Arial"/>
              </a:rPr>
              <a:t>8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a:t>
            </a:r>
            <a:r>
              <a:rPr b="0" lang="en-US" sz="2000" spc="-1" strike="noStrike">
                <a:solidFill>
                  <a:srgbClr val="000000"/>
                </a:solidFill>
                <a:latin typeface="Arial"/>
              </a:rPr>
              <a:t>	</a:t>
            </a:r>
            <a:r>
              <a:rPr b="0" lang="en-US" sz="2000" spc="-1" strike="noStrike">
                <a:solidFill>
                  <a:srgbClr val="000000"/>
                </a:solidFill>
                <a:latin typeface="Arial"/>
              </a:rPr>
              <a:t>2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from Partnership before year 11</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a:t>
            </a:r>
            <a:r>
              <a:rPr b="0" lang="en-US" sz="2000" spc="-1" strike="noStrike">
                <a:solidFill>
                  <a:srgbClr val="000000"/>
                </a:solidFill>
                <a:latin typeface="Arial"/>
              </a:rPr>
              <a:t>	</a:t>
            </a:r>
            <a:r>
              <a:rPr b="0" lang="en-US" sz="2000" spc="-1" strike="noStrike">
                <a:solidFill>
                  <a:srgbClr val="000000"/>
                </a:solidFill>
                <a:latin typeface="Arial"/>
              </a:rPr>
              <a:t>9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a:t>
            </a: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from Partnership after year 10</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a:t>
            </a: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a:t>
            </a:r>
            <a:r>
              <a:rPr b="0" lang="en-US" sz="2000" spc="-1" strike="noStrike">
                <a:solidFill>
                  <a:srgbClr val="000000"/>
                </a:solidFill>
                <a:latin typeface="Arial"/>
              </a:rPr>
              <a:t>	</a:t>
            </a:r>
            <a:r>
              <a:rPr b="0" lang="en-US" sz="2000" spc="-1" strike="noStrike">
                <a:solidFill>
                  <a:srgbClr val="000000"/>
                </a:solidFill>
                <a:latin typeface="Arial"/>
              </a:rPr>
              <a:t>9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 the town partnership contributions through working with the contract level and with private IRR similar to private investor c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iderations in Developing Hybrid Structure</a:t>
            </a:r>
            <a:endParaRPr b="0" lang="en-US" sz="3200" spc="-1" strike="noStrike">
              <a:solidFill>
                <a:srgbClr val="0000ff"/>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from principles in earlier discussion, the amount of contributions to the partnership should consid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IRR for the town portion must be greater than the municipal interest rate, otherwise it is not possible to repay loa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ity IRR should be just sufficient to induce investment and the debt coverage should be aggressive.  This can be accomplished by adjusting the contract pr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making the structuring adjustments, evaluate the savings relative to town savings on a standalone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ength of Pre-Flip Period</a:t>
            </a:r>
            <a:endParaRPr b="0" lang="en-US" sz="3200" spc="-1" strike="noStrike">
              <a:solidFill>
                <a:srgbClr val="0000ff"/>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Should the repayment period be 10 years to cover the PTC payments or should it be 5 years to cover the accelerated deprec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xitie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eriodic Cash Flow Modeling</a:t>
            </a:r>
            <a:endParaRPr b="0" lang="en-US" sz="3200" spc="-1" strike="noStrike">
              <a:solidFill>
                <a:srgbClr val="0000ff"/>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78640" indent="-27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hly versus Annual Periodic Modeling</a:t>
            </a:r>
            <a:endParaRPr b="0" lang="en-US" sz="3200" spc="-1" strike="noStrike">
              <a:solidFill>
                <a:srgbClr val="000000"/>
              </a:solidFill>
              <a:latin typeface="Arial"/>
            </a:endParaRPr>
          </a:p>
          <a:p>
            <a:pPr lvl="1" marL="766440" indent="-222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model with years on a vertical rather than a horizontal basis because you run out of room.</a:t>
            </a:r>
            <a:endParaRPr b="0" lang="en-US" sz="2800" spc="-1" strike="noStrike">
              <a:solidFill>
                <a:srgbClr val="000000"/>
              </a:solidFill>
              <a:latin typeface="Arial"/>
            </a:endParaRPr>
          </a:p>
          <a:p>
            <a:pPr lvl="1" marL="766440" indent="-222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look-up tables to find inputs from annual workings analysis and monthly construction etc.</a:t>
            </a:r>
            <a:endParaRPr b="0" lang="en-US" sz="2800" spc="-1" strike="noStrike">
              <a:solidFill>
                <a:srgbClr val="000000"/>
              </a:solidFill>
              <a:latin typeface="Arial"/>
            </a:endParaRPr>
          </a:p>
          <a:p>
            <a:pPr lvl="1" marL="766440" indent="-222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s accuracy where</a:t>
            </a:r>
            <a:endParaRPr b="0" lang="en-US" sz="2800" spc="-1" strike="noStrike">
              <a:solidFill>
                <a:srgbClr val="000000"/>
              </a:solidFill>
              <a:latin typeface="Arial"/>
            </a:endParaRPr>
          </a:p>
          <a:p>
            <a:pPr lvl="2" marL="1324080" indent="-33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t service is quarterly etc.</a:t>
            </a:r>
            <a:endParaRPr b="0" lang="en-US" sz="2400" spc="-1" strike="noStrike">
              <a:solidFill>
                <a:srgbClr val="000000"/>
              </a:solidFill>
              <a:latin typeface="Arial"/>
            </a:endParaRPr>
          </a:p>
          <a:p>
            <a:pPr lvl="2" marL="1324080" indent="-33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apping occurs at specific point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ates and Length of Period</a:t>
            </a:r>
            <a:endParaRPr b="0" lang="en-US" sz="3200" spc="-1" strike="noStrike">
              <a:solidFill>
                <a:srgbClr val="0000ff"/>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IRR and NPV calculations in Excel assume that the cash flows occur at the end of the perio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careful, explicitly show the beginning day of the period and the ending day of the period and use XIRR and XNPV</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helpful to explicitly show how many months are in each period so the EDATE function can be used</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ep by Step Process for Setting up Dates</a:t>
            </a:r>
            <a:endParaRPr b="0" lang="en-US" sz="3200" spc="-1" strike="noStrike">
              <a:solidFill>
                <a:srgbClr val="0000ff"/>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1</a:t>
            </a:r>
            <a:r>
              <a:rPr b="0" lang="en-US" sz="1600" spc="-1" strike="noStrike">
                <a:solidFill>
                  <a:srgbClr val="000000"/>
                </a:solidFill>
                <a:latin typeface="Arial"/>
                <a:ea typeface="SimSun"/>
              </a:rPr>
              <a:t>: Input months per period for various phases of the project – typically one month for construction period and six months for operating perio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2</a:t>
            </a:r>
            <a:r>
              <a:rPr b="0" lang="en-US" sz="1600" spc="-1" strike="noStrike">
                <a:solidFill>
                  <a:srgbClr val="000000"/>
                </a:solidFill>
                <a:latin typeface="Arial"/>
                <a:ea typeface="SimSun"/>
              </a:rPr>
              <a:t>: Develop period code – this is an essential part of the process, the last date before operation is period zero and the project begins its life in period one.  </a:t>
            </a:r>
            <a:endParaRPr b="0" lang="en-US" sz="16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does not matter at all that the length of some periods is different than other periods.  The start period of construction is the negative of the number of construction months minus one.  For example if the start date of construction versus the completion date yields 40 months, the first period is negative 39.  Then, the first period of construction will be zero as desired. (Note: it is a good idea to hide remaining columns)</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3</a:t>
            </a:r>
            <a:r>
              <a:rPr b="0" lang="en-US" sz="1600" spc="-1" strike="noStrike">
                <a:solidFill>
                  <a:srgbClr val="000000"/>
                </a:solidFill>
                <a:latin typeface="Arial"/>
                <a:ea typeface="SimSun"/>
              </a:rPr>
              <a:t>: Develop switches (TRUE/FALSE) for different phases and important dates – construction period, operation period and terminal perio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4:</a:t>
            </a:r>
            <a:r>
              <a:rPr b="0" lang="en-US" sz="1600" spc="-1" strike="noStrike">
                <a:solidFill>
                  <a:srgbClr val="000000"/>
                </a:solidFill>
                <a:latin typeface="Arial"/>
                <a:ea typeface="SimSun"/>
              </a:rPr>
              <a:t> Correspond the months per period from the switches.  For example, for the construction period, the months per period is o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5</a:t>
            </a:r>
            <a:r>
              <a:rPr b="0" lang="en-US" sz="1600" spc="-1" strike="noStrike">
                <a:solidFill>
                  <a:srgbClr val="000000"/>
                </a:solidFill>
                <a:latin typeface="Arial"/>
                <a:ea typeface="SimSun"/>
              </a:rPr>
              <a:t>: Enter the dates using the EDATE function.  Show both the beginning date and the ending date.  The first beginning date is the established date and the ending date is the EDATE function with using the months per period.  The beginning period in the second period is the ending period plus one da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6:</a:t>
            </a:r>
            <a:r>
              <a:rPr b="0" lang="en-US" sz="1600" spc="-1" strike="noStrike">
                <a:solidFill>
                  <a:srgbClr val="000000"/>
                </a:solidFill>
                <a:latin typeface="Arial"/>
                <a:ea typeface="SimSun"/>
              </a:rPr>
              <a:t> Compute the number of days per period and the days in 360 day year (first period next year)</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ip for Computing Months of Construction</a:t>
            </a:r>
            <a:endParaRPr b="0" lang="en-US" sz="3200" spc="-1" strike="noStrike">
              <a:solidFill>
                <a:srgbClr val="0000ff"/>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set-up a model that accounts for different project phases, a few excel techniques are helpful.  First, the total construction period should be defined by subtracting the completion date from the date at which construction begins (the construction start date and the completion date should be defined in the model along with the number of periods per year for construction and the number of periods per year for operation.)  Through defining dates in this manner, the model can be flexible enough to account for delays in construction of the projec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compute the start date in this manner on a monthly basis, use the DAYS360 function in excel and enter the start date of construction and the completion date (DAYS360(start date, completion date), then divide this number by 30.  To illustrate this process consider the following example:</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tart date of construction: 1-March-201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End date of construction:  1-December-201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AYS360(begin,end)</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27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ivide by 30</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69</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deling the Financial Structure</a:t>
            </a:r>
            <a:endParaRPr b="0" lang="en-US" sz="3200" spc="-1" strike="noStrike">
              <a:solidFill>
                <a:srgbClr val="0000ff"/>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290520" indent="-290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tructure</a:t>
            </a:r>
            <a:endParaRPr b="0" lang="en-US" sz="18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nd uses</a:t>
            </a:r>
            <a:endParaRPr b="0" lang="en-US" sz="16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financing</a:t>
            </a:r>
            <a:endParaRPr b="0" lang="en-US" sz="16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Schedule</a:t>
            </a:r>
            <a:endParaRPr b="0" lang="en-US" sz="16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marL="290520" indent="-290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s</a:t>
            </a:r>
            <a:endParaRPr b="0" lang="en-US" sz="18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a:t>
            </a:r>
            <a:endParaRPr b="0" lang="en-US" sz="16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module</a:t>
            </a:r>
            <a:endParaRPr b="0" lang="en-US" sz="16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a:t>
            </a:r>
            <a:endParaRPr b="0" lang="en-US" sz="16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a:t>
            </a:r>
            <a:endParaRPr b="0" lang="en-US" sz="1600" spc="-1" strike="noStrike">
              <a:solidFill>
                <a:srgbClr val="000000"/>
              </a:solidFill>
              <a:latin typeface="Arial"/>
            </a:endParaRPr>
          </a:p>
          <a:p>
            <a:pPr marL="290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ax Depreciation Analysis</a:t>
            </a:r>
            <a:endParaRPr b="0" lang="en-US" sz="3200" spc="-1" strike="noStrike">
              <a:solidFill>
                <a:srgbClr val="0000ff"/>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of Tax Depreciation Allowanc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Year MAC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e with Straight Li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Issu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½ Year Conventio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le Asse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of Tax Credit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s of Tax Depreciation on the Economics of Wind Projec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Case Effe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st Case Eff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nualizing with Fiscal Year</a:t>
            </a:r>
            <a:endParaRPr b="0" lang="en-US" sz="3200" spc="-1" strike="noStrike">
              <a:solidFill>
                <a:srgbClr val="0000ff"/>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is simple to annualize periodic cash flows once the fiscal year has been established.  This can be accomplished by listing the year below the date and then using the SUMIF function to sum the periodic cash flows within the year. To demonstrate the process, the establishing the fiscal year is discussed and then the process of using the conditional sum is described.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stablishing the fiscal year can be demonstrated by considering the example of Microsoft Corporation.  For this company, the fiscal year 2007 ends at June 30, 2007 and covers the period July 2006 through June 2007.  Here, one would define the fiscal year as June.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or programming purposes, January through June correspond to the current calendar year (2007) and the later months, July through December, correspond to the prior fiscal year.  In project finance models, for convenience, the fiscal year should in the month just before commercial operation.  For example, if construction ends in May and the project begins in June, the fiscal year should end in May.  Once the month of the fiscal year is established, use the YEAR function along with the MONTH function and an if statement to determine the fiscal year.  For the case where the fiscal year is ending in May, if the month is less than to June, the fiscal year equals the calendar year.  On the other hand, when the month is greater than June, the fiscal year is the calendar year plus one.</a:t>
            </a:r>
            <a:endParaRPr b="0" lang="en-US" sz="12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 Compute Fiscal year</a:t>
            </a:r>
            <a:endParaRPr b="0" lang="en-US" sz="12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month of the opening date is </a:t>
            </a:r>
            <a:r>
              <a:rPr b="1" i="1" lang="en-US" sz="1200" spc="-1" strike="noStrike">
                <a:solidFill>
                  <a:srgbClr val="000000"/>
                </a:solidFill>
                <a:latin typeface="Arial"/>
                <a:ea typeface="SimSun"/>
              </a:rPr>
              <a:t>less than</a:t>
            </a:r>
            <a:r>
              <a:rPr b="0" lang="en-US" sz="1200" spc="-1" strike="noStrike">
                <a:solidFill>
                  <a:srgbClr val="000000"/>
                </a:solidFill>
                <a:latin typeface="Arial"/>
                <a:ea typeface="SimSun"/>
              </a:rPr>
              <a:t> the fiscal month, (e.g. June) then the fiscal year is the same of the calendar year (e.g. 2007).  (For example, for months of January through May, the year is 2007.)</a:t>
            </a:r>
            <a:endParaRPr b="0" lang="en-US" sz="12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year of the opening date is </a:t>
            </a:r>
            <a:r>
              <a:rPr b="1" i="1" lang="en-US" sz="1200" spc="-1" strike="noStrike">
                <a:solidFill>
                  <a:srgbClr val="000000"/>
                </a:solidFill>
                <a:latin typeface="Arial"/>
                <a:ea typeface="SimSun"/>
              </a:rPr>
              <a:t>greater than or equal</a:t>
            </a:r>
            <a:r>
              <a:rPr b="0" lang="en-US" sz="1200" spc="-1" strike="noStrike">
                <a:solidFill>
                  <a:srgbClr val="000000"/>
                </a:solidFill>
                <a:latin typeface="Arial"/>
                <a:ea typeface="SimSun"/>
              </a:rPr>
              <a:t> to the fiscal month (e.g. July), the year is the calendar year plus one (e.g. 2007+1).  (In the example above, June through December are set to 2008.)</a:t>
            </a:r>
            <a:endParaRPr b="0" lang="en-US" sz="12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2: Copy titles to a separate section: Once the fiscal year is established, copy the cash flow titles to a separate section, or a separate sheet.</a:t>
            </a:r>
            <a:endParaRPr b="0" lang="en-US" sz="12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3: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pply the SUMIF function, where the initial range is the fiscal year definition, the criteria is the year and the sum range is the cash flow item.  To make this work shade the entire row and use fixed references for the fiscal year, and relative references for the criteria.</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h Sweep</a:t>
            </a:r>
            <a:endParaRPr b="0" lang="en-US" sz="3200" spc="-1" strike="noStrike">
              <a:solidFill>
                <a:srgbClr val="0000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sweeps mean that if the project is successful, we get repaid faster, by taking ("sweeping") a portion of the surplus to reimburse the loa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s always use more conservative revenue estimates than investors to have a higher certainty that such revenue levels will always be reached - and make it possible for the debt to be pai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ing go well, of even just as expected, there will be more revenue than the banks plan, and the investors will make a lot more mone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n this case, we have a right to a portion of these extra revenues in the "better-than-the-pessimistic-scenario" cases. That means that it is actually quite likely that we be repaid faster than we expec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on't earn more, but we take risk over a shorter period, and it does lower the rate of return of the investors (as their own income is delayed by these paym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bt Schedule</a:t>
            </a:r>
            <a:endParaRPr b="0" lang="en-US" sz="3200" spc="-1" strike="noStrike">
              <a:solidFill>
                <a:srgbClr val="0000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bt Schedule Discussion</a:t>
            </a:r>
            <a:endParaRPr b="0" lang="en-US" sz="3200" spc="-1" strike="noStrike">
              <a:solidFill>
                <a:srgbClr val="0000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Draws come from sources and uses; debt repayments come from inpu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Corkscrew with Opening and Closing Bal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Minimum Function (rather than if statement) to assure that repayments do not exceed the opening balan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 with Deb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ce peri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pay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ed repayment using solve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Debt Service Reserves in this Sec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tting-up the Debt Schedule</a:t>
            </a:r>
            <a:endParaRPr b="0" lang="en-US" sz="3200" spc="-1" strike="noStrike">
              <a:solidFill>
                <a:srgbClr val="0000ff"/>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ndamental part of a debt schedule is defining the balance of debt outstanding and computing the interest rate from the balance of the debt.  The debt outstanding should be computed from explicitly showing the opening balance, the new debt issues, the debt repayments and the closing balance on distinct rows of the model.  These debt balance schedules should be listed for every single existing and prospective debt facility that will be present during the forecast period. In the case of project finance models, the debt issues include all of the different tranches of debt that are issued to finance construction.  In addition, project finance models should be set up to include debt issues that will in a re-financ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debt draws are computed from the source and use statement and from some criteria that defines how re-financing will occur.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nner of repaying debt depends on the type of debt issue.  In general, the repayment calculation uses the opening balance of the debt.  For example, in a subordinated debt issue with repayment at a single date – bullet repayments – a TRUE/FALSE test can be created from the repayment year and this is used to assure that repayment only occurs on the repayment date.  (The programming involves (year = repayment year) x opening balanc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generally a good idea to show the total accumulated amount of the debt on a separate line item above the debt balance.  This accumulated balance can then be multiplied by the repayment percent or a tailored repayment schedule to establish the periodic repayments.  In this case, the MIN function should be used to assure that the amount being repaid does not exceed the opening balance of the debt.  </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 of Debt Module in Actual Models</a:t>
            </a:r>
            <a:endParaRPr b="0" lang="en-US" sz="3200" spc="-1" strike="noStrike">
              <a:solidFill>
                <a:srgbClr val="0000ff"/>
              </a:solidFill>
              <a:latin typeface="Arial"/>
            </a:endParaRPr>
          </a:p>
        </p:txBody>
      </p:sp>
      <p:sp>
        <p:nvSpPr>
          <p:cNvPr id="184" name="PlaceHolder 2"/>
          <p:cNvSpPr>
            <a:spLocks noGrp="1"/>
          </p:cNvSpPr>
          <p:nvPr>
            <p:ph/>
          </p:nvPr>
        </p:nvSpPr>
        <p:spPr>
          <a:xfrm>
            <a:off x="762120" y="1295280"/>
            <a:ext cx="7619760" cy="914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schedule can be much more complicated than an opening balance, with drawls and closing balance as illustrated below</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4" descr=""/>
          <p:cNvPicPr/>
          <p:nvPr/>
        </p:nvPicPr>
        <p:blipFill>
          <a:blip r:embed="rId1"/>
          <a:stretch/>
        </p:blipFill>
        <p:spPr>
          <a:xfrm>
            <a:off x="1295280" y="1954080"/>
            <a:ext cx="6600960" cy="4392720"/>
          </a:xfrm>
          <a:prstGeom prst="rect">
            <a:avLst/>
          </a:prstGeom>
          <a:ln w="0">
            <a:noFill/>
          </a:ln>
        </p:spPr>
      </p:pic>
      <p:sp>
        <p:nvSpPr>
          <p:cNvPr id="186" name="Text Box 5"/>
          <p:cNvSpPr/>
          <p:nvPr/>
        </p:nvSpPr>
        <p:spPr>
          <a:xfrm>
            <a:off x="533520" y="2971800"/>
            <a:ext cx="2057400" cy="201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items for cash sweep, interest capitalization, scheduled amortisation, refinancing</a:t>
            </a:r>
            <a:endParaRPr b="0" lang="en-US" sz="1800" spc="-1" strike="noStrike">
              <a:solidFill>
                <a:srgbClr val="000000"/>
              </a:solidFill>
              <a:latin typeface="Arial"/>
            </a:endParaRPr>
          </a:p>
        </p:txBody>
      </p:sp>
      <p:sp>
        <p:nvSpPr>
          <p:cNvPr id="187" name="Line 6"/>
          <p:cNvSpPr/>
          <p:nvPr/>
        </p:nvSpPr>
        <p:spPr>
          <a:xfrm>
            <a:off x="1905120" y="3962520"/>
            <a:ext cx="761760" cy="1676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bt Repayment Structure and Risk</a:t>
            </a:r>
            <a:endParaRPr b="0" lang="en-US" sz="3200" spc="-1" strike="noStrike">
              <a:solidFill>
                <a:srgbClr val="0000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ject's debt amortization schedule often influences the rating, more so than the degree of leverag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loaded principal amortization schedules that capitalize on the more predictable project cash flows in the near term may be less risky that those with whose delayed amortizations seek to take advantage of long-term inflation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le re-payment structures can be developed where the project has irregular cash flow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bt Repayment - Sculpting</a:t>
            </a:r>
            <a:endParaRPr b="0" lang="en-US" sz="3200" spc="-1" strike="noStrike">
              <a:solidFill>
                <a:srgbClr val="0000ff"/>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working on a project finance model, you sometimes would like to compute the debt capacity through “sculpting” the debt repayments such that the debt service coverage ratio achieves a targeted ratio.  This is accomplished using the solver and the following step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etting the both debt leverage and the repayment for each perio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computed debt service ratio equals the target debt service coverage rati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final debt balance must be zer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is helpful to set-up a macro to re-do the solver with a macro.  Unfortunately, this is a bit complex because the visual basic must be adjusted to allow the solver to work.  This process involve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1: Press the Alt-F11 key to get the visual basic menu</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Go to the tools and references option and then click on the solver op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After beginning to record a macro, re-set the solve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Make sure the first part of the solver is not blank</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Re-do the solve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Add a TRUE statement after solver solve to automate</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delling Defaults on Debt</a:t>
            </a:r>
            <a:endParaRPr b="0" lang="en-US" sz="3200" spc="-1" strike="noStrike">
              <a:solidFill>
                <a:srgbClr val="0000ff"/>
              </a:solidFill>
              <a:latin typeface="Arial"/>
            </a:endParaRPr>
          </a:p>
        </p:txBody>
      </p:sp>
      <p:sp>
        <p:nvSpPr>
          <p:cNvPr id="193" name="PlaceHolder 2"/>
          <p:cNvSpPr>
            <a:spLocks noGrp="1"/>
          </p:cNvSpPr>
          <p:nvPr>
            <p:ph/>
          </p:nvPr>
        </p:nvSpPr>
        <p:spPr>
          <a:xfrm>
            <a:off x="762120" y="1295280"/>
            <a:ext cx="7619760" cy="51055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order to evaluate the credit spread, it is useful to determine at what point an investment experiences a loss on a loan.  When a loss occurs, the interest rate realized by lenders is less than promised interest rate and attempts to restructure the debt have not allowed temporary defaults to be repaid.  Modeling defaults on debt is important in credit analysis because the ultimate task in credit analysis is to measure the probability of default as well as the loss given default. The following process can be used to compute defaults on debt and shows how to model defaul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1: Set up the debt balance with line items to incorporate defaults and re-payment of defaul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 Fill in the default row from a sub-total line in the cash flow waterfall that computes the default on debt from the inability to meet debt service (this should be computed using the formula MAX(-cash flow,0).</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 Set the re-payment of default to be the previous year’s default amount implying that all defaults are paid of in the subsequent year.  This means the model attempts to fully repay the default in the year immediately following the default.  If there is no cash flow to repay the default, the default increases by the amount of the defaul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Enter the repayment of default as a cash outflow item in the cash flow waterfal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Assure that the repayment of default is less than the opening balance of the debtless the scheduled repayment so that too much debt is not repaid in the final year of the mode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 Compute the cash flow realized by lenders through deducting defaults and adding re-payment of defaults to the scheduled debt service.</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Relationship Between Debt Schedule and Cash Flow Schedule in Structured Finance</a:t>
            </a:r>
            <a:endParaRPr b="0" lang="en-US" sz="1100" spc="-1" strike="noStrike">
              <a:solidFill>
                <a:srgbClr val="0000ff"/>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shows the linking of the debt schedule and the cash flow statement</a:t>
            </a:r>
            <a:endParaRPr b="0" lang="en-US" sz="1100" spc="-1" strike="noStrike">
              <a:solidFill>
                <a:srgbClr val="000000"/>
              </a:solidFill>
              <a:latin typeface="Arial"/>
            </a:endParaRPr>
          </a:p>
        </p:txBody>
      </p:sp>
      <p:sp>
        <p:nvSpPr>
          <p:cNvPr id="196" name="Text Box 4"/>
          <p:cNvSpPr/>
          <p:nvPr/>
        </p:nvSpPr>
        <p:spPr>
          <a:xfrm>
            <a:off x="1066680" y="1828800"/>
            <a:ext cx="2971800" cy="2620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5"/>
          <p:cNvSpPr/>
          <p:nvPr/>
        </p:nvSpPr>
        <p:spPr>
          <a:xfrm>
            <a:off x="1219320" y="2286000"/>
            <a:ext cx="2133360" cy="1535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bt Schedule</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Opening Balance</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w Issues</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payments</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fault</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payment of Default</a:t>
            </a:r>
            <a:endParaRPr b="0" lang="en-US" sz="1100" spc="-1" strike="noStrike">
              <a:solidFill>
                <a:srgbClr val="000000"/>
              </a:solidFill>
              <a:latin typeface="Arial"/>
            </a:endParaRPr>
          </a:p>
        </p:txBody>
      </p:sp>
      <p:sp>
        <p:nvSpPr>
          <p:cNvPr id="198" name="Line 6"/>
          <p:cNvSpPr/>
          <p:nvPr/>
        </p:nvSpPr>
        <p:spPr>
          <a:xfrm flipH="1" flipV="1">
            <a:off x="2437920" y="3581280"/>
            <a:ext cx="7621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7"/>
          <p:cNvSpPr/>
          <p:nvPr/>
        </p:nvSpPr>
        <p:spPr>
          <a:xfrm>
            <a:off x="3429000" y="3733920"/>
            <a:ext cx="1523880" cy="26136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pay after default</a:t>
            </a:r>
            <a:endParaRPr b="0" lang="en-US" sz="1100" spc="-1" strike="noStrike">
              <a:solidFill>
                <a:srgbClr val="000000"/>
              </a:solidFill>
              <a:latin typeface="Arial"/>
            </a:endParaRPr>
          </a:p>
        </p:txBody>
      </p:sp>
      <p:sp>
        <p:nvSpPr>
          <p:cNvPr id="200" name="Text Box 8"/>
          <p:cNvSpPr/>
          <p:nvPr/>
        </p:nvSpPr>
        <p:spPr>
          <a:xfrm>
            <a:off x="1905120" y="4191120"/>
            <a:ext cx="5181480" cy="20455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sh Flow Statement</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rating Cash Flow</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us Interest</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ash Before Financing</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f negative during construction , feeds into financing needs</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f positive, used for repayment of debt</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f insufficient cash after construction, default</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201"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0"/>
          <p:cNvSpPr/>
          <p:nvPr/>
        </p:nvSpPr>
        <p:spPr>
          <a:xfrm>
            <a:off x="1066680" y="59436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1"/>
          <p:cNvSpPr/>
          <p:nvPr/>
        </p:nvSpPr>
        <p:spPr>
          <a:xfrm>
            <a:off x="3429000" y="32767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2"/>
          <p:cNvSpPr/>
          <p:nvPr/>
        </p:nvSpPr>
        <p:spPr>
          <a:xfrm>
            <a:off x="5181480" y="3276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3"/>
          <p:cNvSpPr/>
          <p:nvPr/>
        </p:nvSpPr>
        <p:spPr>
          <a:xfrm flipH="1">
            <a:off x="4952520" y="56386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4"/>
          <p:cNvSpPr/>
          <p:nvPr/>
        </p:nvSpPr>
        <p:spPr>
          <a:xfrm>
            <a:off x="3429000" y="29718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5"/>
          <p:cNvSpPr/>
          <p:nvPr/>
        </p:nvSpPr>
        <p:spPr>
          <a:xfrm>
            <a:off x="6400800" y="297180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6"/>
          <p:cNvSpPr/>
          <p:nvPr/>
        </p:nvSpPr>
        <p:spPr>
          <a:xfrm flipH="1">
            <a:off x="6248160" y="5334120"/>
            <a:ext cx="1522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9" name="Line 17"/>
          <p:cNvSpPr/>
          <p:nvPr/>
        </p:nvSpPr>
        <p:spPr>
          <a:xfrm flipH="1">
            <a:off x="1523520" y="48769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8"/>
          <p:cNvSpPr/>
          <p:nvPr/>
        </p:nvSpPr>
        <p:spPr>
          <a:xfrm flipV="1">
            <a:off x="1523880" y="396252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ffect of Production Tax Credit and Accelerated Tax Depreciation</a:t>
            </a:r>
            <a:endParaRPr b="0" lang="en-US" sz="3200" spc="-1" strike="noStrike">
              <a:solidFill>
                <a:srgbClr val="0000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cipal reason for the use of private investors rather than municipal ownership is the possibility to use production tax credits and accelerated tax depreciation to offset taxes that would otherwise be pa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the PTC and accelerated depreciation, private investors would require higher electricity rates to meet the rate of return require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s on the next page use a rate of return of 9% and a debt service coverage of 40% to illustrate the effect of the tax benefits.  The first case assumes the PTC and a five year depreciation is available, while the second assumes that the tax benefits are not avail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fault Mechanics</a:t>
            </a:r>
            <a:endParaRPr b="0" lang="en-US" sz="3200" spc="-1" strike="noStrike">
              <a:solidFill>
                <a:srgbClr val="0000ff"/>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computing default and repayment of default</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6002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a:t>
            </a:r>
            <a:endParaRPr b="0" lang="en-US" sz="1200" spc="-1" strike="noStrike">
              <a:solidFill>
                <a:srgbClr val="000000"/>
              </a:solidFill>
              <a:latin typeface="Arial"/>
            </a:endParaRPr>
          </a:p>
          <a:p>
            <a:pPr lvl="3" marL="16002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of Default from year 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Arial"/>
            </a:endParaRPr>
          </a:p>
          <a:p>
            <a:pPr lvl="3" marL="16002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a:t>
            </a:r>
            <a:endParaRPr b="0" lang="en-US" sz="1200" spc="-1" strike="noStrike">
              <a:solidFill>
                <a:srgbClr val="000000"/>
              </a:solidFill>
              <a:latin typeface="Arial"/>
            </a:endParaRPr>
          </a:p>
          <a:p>
            <a:pPr lvl="3" marL="16002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in year 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0</a:t>
            </a:r>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delling Defaults on Debt - Procedure</a:t>
            </a:r>
            <a:endParaRPr b="0" lang="en-US" sz="3200" spc="-1" strike="noStrike">
              <a:solidFill>
                <a:srgbClr val="0000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illustrates the modelling process for defaults.  </a:t>
            </a:r>
            <a:endParaRPr b="0" lang="en-US" sz="1600" spc="-1" strike="noStrike">
              <a:solidFill>
                <a:srgbClr val="000000"/>
              </a:solidFill>
              <a:latin typeface="Arial"/>
            </a:endParaRPr>
          </a:p>
          <a:p>
            <a:pPr lvl="1" marL="977760" indent="-1774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the default comes from the cash flow statement</a:t>
            </a:r>
            <a:endParaRPr b="0" lang="en-US" sz="1600" spc="-1" strike="noStrike">
              <a:solidFill>
                <a:srgbClr val="000000"/>
              </a:solidFill>
              <a:latin typeface="Arial"/>
            </a:endParaRPr>
          </a:p>
          <a:p>
            <a:pPr lvl="1" marL="977760" indent="-1774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f statement in the cash flow statement</a:t>
            </a:r>
            <a:endParaRPr b="0" lang="en-US" sz="1600" spc="-1" strike="noStrike">
              <a:solidFill>
                <a:srgbClr val="000000"/>
              </a:solidFill>
              <a:latin typeface="Arial"/>
            </a:endParaRPr>
          </a:p>
          <a:p>
            <a:pPr lvl="1" marL="977760" indent="-1774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ayment of default from the prior default</a:t>
            </a:r>
            <a:endParaRPr b="0" lang="en-US" sz="1600" spc="-1" strike="noStrike">
              <a:solidFill>
                <a:srgbClr val="000000"/>
              </a:solidFill>
              <a:latin typeface="Arial"/>
            </a:endParaRPr>
          </a:p>
          <a:p>
            <a:pPr lvl="1" marL="977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5" name="Picture 4" descr=""/>
          <p:cNvPicPr/>
          <p:nvPr/>
        </p:nvPicPr>
        <p:blipFill>
          <a:blip r:embed="rId1"/>
          <a:stretch/>
        </p:blipFill>
        <p:spPr>
          <a:xfrm>
            <a:off x="1523880" y="3352680"/>
            <a:ext cx="5734080" cy="2179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SCR Covenants and Risk Mitigation</a:t>
            </a:r>
            <a:endParaRPr b="0" lang="en-US" sz="3200" spc="-1" strike="noStrike">
              <a:solidFill>
                <a:srgbClr val="0000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will not come into play if everything is working in a base case scena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cannot change an un-economic project into an economic project – they cannot prevent the inevitab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covenants can allocate more of the free cash flow to debt holders and less to equity holders in a project that is marginally economi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model should be able t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which covenant is most effective in reducing ris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level of the covenant that will materially reduce risk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whether a covenant does not do much in assisting in risk reduction for the economics of a projec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vestors Need Some Dividends Before All Debt is Paid Off</a:t>
            </a:r>
            <a:endParaRPr b="0" lang="en-US" sz="3200" spc="-1" strike="noStrike">
              <a:solidFill>
                <a:srgbClr val="0000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ing of debt service (i.e. loan interest payments and principal repayments) is one of the biggest factors that drives the rate of return for equity holders in a project.  If the debt service is structured to allow no dividends until all debt is paid, return will be lower.  This will generally be unacceptable to sponso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ster investors in a project are paid dividends, the better their rate of retur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s therefore do not wish cash flow from operations of the project to be devoted to lenders at the expense of these dividen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ders, on the other hand, generally wish to be repaid as rapidly as possible.  Striking a reasonable balance between these conflicting demands is an important part of loan negoti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 Yescombe, Principles of Project Finance</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h Sweeps and Cash Traps</a:t>
            </a:r>
            <a:endParaRPr b="0" lang="en-US" sz="3200" spc="-1" strike="noStrike">
              <a:solidFill>
                <a:srgbClr val="0000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sweep mechanisms. That simply means that if the project is successful, we get repaid faster, by taking ("sweeping") a portion of the surplus to reimbursethe loans. Banks always use more conservative revenue estimates than investors to have a higher certainty that such revenue levels will always be reached - and make it possible for the debt to be paid. If thing go well, of even just as expected, there will be more revenue than the banks plan, and the investors will make a lot more money. So in this case, we have a right to a portion of these extra revenues in the "better-than-the-pessimistic-scenario" cases. That means that it is actually quite likely that we be repaid faster than we expect. We don't earn more, but we take risk over a shorter period, and it does lower the rate of return of the investors (as their own income is delayed by these payments). </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 of Financial Covenants</a:t>
            </a:r>
            <a:endParaRPr b="0" lang="en-US" sz="3200" spc="-1" strike="noStrike">
              <a:solidFill>
                <a:srgbClr val="0000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SECTION 6.15 Financial Covenants.</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The Borrower shall not, as of the end of each fiscal quarter, permit the Ratio of Cash Flow to Fixed Charges to be less than 1.5:1.0.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The Borrower shall not, as of the end of each fiscal quarter, permit the Ratio of Debt to Capitalization to be greater than 0.6:1.0.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The Borrower shall not, at the end of each fiscal quarter, permit (i) Consolidated Net Worth to be less than the Minimum Consolidated Net Worth and (ii) Non-Trading Consolidated Net Worth to be less than the Minimum Non-Trading Consolidated Net Worth. </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h Flow Restrictions (Reference)</a:t>
            </a:r>
            <a:endParaRPr b="0" lang="en-US" sz="3200" spc="-1" strike="noStrike">
              <a:solidFill>
                <a:srgbClr val="0000ff"/>
              </a:solidFill>
              <a:latin typeface="Arial"/>
            </a:endParaRPr>
          </a:p>
        </p:txBody>
      </p:sp>
      <p:sp>
        <p:nvSpPr>
          <p:cNvPr id="225" name="PlaceHolder 2"/>
          <p:cNvSpPr>
            <a:spLocks noGrp="1"/>
          </p:cNvSpPr>
          <p:nvPr>
            <p:ph/>
          </p:nvPr>
        </p:nvSpPr>
        <p:spPr>
          <a:xfrm>
            <a:off x="762120" y="1219320"/>
            <a:ext cx="7619760" cy="487656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nants can restrict the amount of dividends paid to sponsors during good time and bad time periods. Covenants that restrict cash flow in bad time periods are known as cash traps. Covenants that limit cash payments when cash flow is high are known as cash flow sweeps. These covenants are explained as follows by Standard and Poor’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project’s credit is generally strengthened by covenants that limit, or even preclude, distributions to sponsors unless both robust historic and projected DSCRs are met, and reserve funds are fully funded.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reason for dividend restrictions in time periods when cash flow is low is because when financial results are worse than expected, it is essential to assure that cash flow is kept for the debt holders and not “leaked” out of the project as dividends. A cash flow trap operates by limiting any dividend payments if the debt service coverage is below a debt service ratio criteria. If the dividend restriction is tied to a relatively high level of the debt service coverage such as 2.5x, the dividend restriction will occur more often than if the dividend restriction is set to a relatively low level such as 1.2x – the “bad” time periods occur more often with the higher covenant. Since the covenant limits dividends, cash flow traps mean that something must be done with the cash flow that is not distributed to sponsors. Cash either can be used to payoff debt early or be put into a debt service reserve to protect debt holders.</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h Flow Sweeps and Cash Flow</a:t>
            </a:r>
            <a:endParaRPr b="0" lang="en-US" sz="3200" spc="-1" strike="noStrike">
              <a:solidFill>
                <a:srgbClr val="0000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cash sweep covenant applies in periods when cash flow is high rather than when cash flow is low. The reason for restrictions on dividends in good time periods is because when prices higher than normal, cash flow can be kept for the debt holders to protect against default in later periods when cash flow and prices may be below normal.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sh flow sweeps operate by computing the amount of dividends that will just limit the debt service coverage to the covenant – for example, dividends cannot be paid above a level that implies a DSCR of 2.0x.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like the cash traps, if the cash sweep covenant is set to a low level it is more restrictive (the cash flow trap covenant described above was more restrictive with a higher level). If the cash sweep is tied to a relatively low level of the debt service coverage such as 1.5x, the dividend restriction will occur more often than if the dividend restriction is set to a relatively low level such as 3.5x. </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ash Trap Mechanics</a:t>
            </a:r>
            <a:endParaRPr b="0" lang="en-US" sz="1400" spc="-1" strike="noStrike">
              <a:solidFill>
                <a:srgbClr val="0000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up Cash Reserve Account and Relate to the Cash Flow Statemen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Text Box 4"/>
          <p:cNvSpPr/>
          <p:nvPr/>
        </p:nvSpPr>
        <p:spPr>
          <a:xfrm>
            <a:off x="609480" y="2133720"/>
            <a:ext cx="2590920" cy="2253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Reser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ning Balan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Inflow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Outflow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ding Withdraw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Income</a:t>
            </a:r>
            <a:endParaRPr b="0" lang="en-US" sz="1400" spc="-1" strike="noStrike">
              <a:solidFill>
                <a:srgbClr val="000000"/>
              </a:solidFill>
              <a:latin typeface="Arial"/>
            </a:endParaRPr>
          </a:p>
        </p:txBody>
      </p:sp>
      <p:sp>
        <p:nvSpPr>
          <p:cNvPr id="231" name="Text Box 5"/>
          <p:cNvSpPr/>
          <p:nvPr/>
        </p:nvSpPr>
        <p:spPr>
          <a:xfrm>
            <a:off x="3733920" y="3581280"/>
            <a:ext cx="4343400" cy="30038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Stat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Cash Flo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 Cash Balan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 Interest Inco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positive cash and debt outstanding, trap cas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negative cash and positive cash balance, use cas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paid off debt and positive cash flow, withdraw all cas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btract: Cash Balance</a:t>
            </a:r>
            <a:endParaRPr b="0" lang="en-US" sz="1400" spc="-1" strike="noStrike">
              <a:solidFill>
                <a:srgbClr val="000000"/>
              </a:solidFill>
              <a:latin typeface="Arial"/>
            </a:endParaRPr>
          </a:p>
        </p:txBody>
      </p:sp>
      <p:sp>
        <p:nvSpPr>
          <p:cNvPr id="232"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xed Assets and Depreciation</a:t>
            </a:r>
            <a:endParaRPr b="0" lang="en-US" sz="3200" spc="-1" strike="noStrike">
              <a:solidFill>
                <a:srgbClr val="0000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Value of Tax Benefits in Alternative Cases</a:t>
            </a:r>
            <a:endParaRPr b="0" lang="en-US" sz="3200" spc="-1" strike="noStrike">
              <a:solidFill>
                <a:srgbClr val="0000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Extreme Ca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is no energy production, there is no PTC.  This implies that higher capacity factor projects have greater tax benefi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oject earns no income above the interest cost, there is not tax to pay and the advantage towns have in terms of tax payments do not exi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oject has a very low cost, there is a low base for tax depreciation and the accelerated tax depreciation benefits are not as importa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tems Included in Fixed Asset and Other</a:t>
            </a:r>
            <a:endParaRPr b="0" lang="en-US" sz="3200" spc="-1" strike="noStrike">
              <a:solidFill>
                <a:srgbClr val="0000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 Bal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Depreciation Exp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mulated Depreci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Depreciation Exp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mulated Unamortized Debt Financing Fe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rtization of Debt Financing Fe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Reserves</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uting Vintage Amounts</a:t>
            </a:r>
            <a:endParaRPr b="0" lang="en-US" sz="3200" spc="-1" strike="noStrike">
              <a:solidFill>
                <a:srgbClr val="0000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 Proc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se years to create an index with year born on the vertical colum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age of the plant –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of model minus year born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relative referenc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negative numbers before bo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HLOOKUP to compute the rate (better than match and index)</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SUMIF with test on “&lt;&gt;#N/A” to add all of the amounts</a:t>
            </a:r>
            <a:endParaRPr b="0"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ep by Step Process for Depreciation</a:t>
            </a:r>
            <a:endParaRPr b="0" lang="en-US" sz="3200" spc="-1" strike="noStrike">
              <a:solidFill>
                <a:srgbClr val="0000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omputation of depreciation can be complex when the depreciation rate is not constant for each year.  In this situation, the age of the asset must retained to compute depreciation.  This can make be one of the most difficult parts of the process.  To do this, the following process can be use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Enter the depreciation rate by year for category.</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Use the TRANSOPSE function (not the copy and paste special) to set up a matrix that has the year the asset was created on the column and the year of the model on the row</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Compute the age of the plant and allow the age to be negative in years before the asset was created (use relative reference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Use the HLOOKUP function to relate the depreciation rate to the vintage of the plan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Multiply the depreciation rate by the cost of the asset being depreciated from the cost of the asset that was created from the TRANSPOSE functio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Repeat the process for assets with different vintages and with book and tax depreciation.</a:t>
            </a:r>
            <a:endParaRPr b="0" lang="en-US" sz="1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reciation Expense and Vintage</a:t>
            </a:r>
            <a:endParaRPr b="0" lang="en-US" sz="3200" spc="-1" strike="noStrike">
              <a:solidFill>
                <a:srgbClr val="0000ff"/>
              </a:solidFill>
              <a:latin typeface="Arial"/>
            </a:endParaRPr>
          </a:p>
        </p:txBody>
      </p:sp>
      <p:sp>
        <p:nvSpPr>
          <p:cNvPr id="249" name="PlaceHolder 2"/>
          <p:cNvSpPr>
            <a:spLocks noGrp="1"/>
          </p:cNvSpPr>
          <p:nvPr>
            <p:ph/>
          </p:nvPr>
        </p:nvSpPr>
        <p:spPr>
          <a:xfrm>
            <a:off x="761760" y="1294920"/>
            <a:ext cx="7545240" cy="2357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straight line depreciation expen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 the accumulated plant balance from the balance sheet by the depreciation ra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omplex depreciation modeling – vintage, accelerated, deferred taxes, multiple categories will be covered late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0" name="Picture 4" descr=""/>
          <p:cNvPicPr/>
          <p:nvPr/>
        </p:nvPicPr>
        <p:blipFill>
          <a:blip r:embed="rId1"/>
          <a:stretch/>
        </p:blipFill>
        <p:spPr>
          <a:xfrm>
            <a:off x="762120" y="3895560"/>
            <a:ext cx="7472160" cy="15829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perating Reserves</a:t>
            </a:r>
            <a:endParaRPr b="0" lang="en-US" sz="3200" spc="-1" strike="noStrike">
              <a:solidFill>
                <a:srgbClr val="0000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osits into Reser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of future nominal amou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and Cash F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actual cost as inco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accrue expen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osit is cash outf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emove deposit and pay expense, record income and cash flow acc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s on the balance of funds being positive</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3200" spc="-1" strike="noStrike">
                <a:solidFill>
                  <a:srgbClr val="0000ff"/>
                </a:solidFill>
                <a:latin typeface="Arial"/>
              </a:rPr>
              <a:t>Modelling Amortisation of Debt Financing Fees</a:t>
            </a:r>
            <a:endParaRPr b="0" lang="en-US" sz="3200" spc="-1" strike="noStrike">
              <a:solidFill>
                <a:srgbClr val="0000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mitment Fe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puted on the uncommitted balance of the loan during the construction period (banks must hold reserves even if the loan has not been drawn – e.g. 1.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Accumulate fees including fees on committed but unused balance and up-front fees and fees at closing.  This requires inputting the commitment as well as the outstanding amount of the lo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Use switch for debt outstanding to compute amortisation of fe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pute accumulated amortisation of fees so as to show the un-amortised balance on the balance sheet</a:t>
            </a:r>
            <a:endParaRPr b="0"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ome Statement and Income Taxes</a:t>
            </a:r>
            <a:endParaRPr b="0" lang="en-US" sz="3200" spc="-1" strike="noStrike">
              <a:solidFill>
                <a:srgbClr val="0000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t Operating Loss</a:t>
            </a:r>
            <a:endParaRPr b="0" lang="en-US" sz="3200" spc="-1" strike="noStrike">
              <a:solidFill>
                <a:srgbClr val="0000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should be part of a reasonable mode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et Operating Los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able income without the NOL which allows negative tax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ls from the NOL.</a:t>
            </a:r>
            <a:endParaRPr b="0" lang="en-US" sz="1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L Example</a:t>
            </a:r>
            <a:endParaRPr b="0" lang="en-US" sz="3200" spc="-1" strike="noStrike">
              <a:solidFill>
                <a:srgbClr val="0000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modelling of an NO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f statement the adds to the NOL when the taxes before NOL are positiv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f statement together with a minimum statement to withdraw from the NOL balance.</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Picture 4" descr=""/>
          <p:cNvPicPr/>
          <p:nvPr/>
        </p:nvPicPr>
        <p:blipFill>
          <a:blip r:embed="rId1"/>
          <a:stretch/>
        </p:blipFill>
        <p:spPr>
          <a:xfrm>
            <a:off x="1523880" y="3733920"/>
            <a:ext cx="6191280" cy="21142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h Flow Waterfall</a:t>
            </a:r>
            <a:endParaRPr b="0" lang="en-US" sz="3200" spc="-1" strike="noStrike">
              <a:solidFill>
                <a:srgbClr val="0000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ummary of Tax Benefits and Costs</a:t>
            </a:r>
            <a:endParaRPr b="0" lang="en-US" sz="3200" spc="-1" strike="noStrike">
              <a:solidFill>
                <a:srgbClr val="0000ff"/>
              </a:solidFill>
              <a:latin typeface="Arial"/>
            </a:endParaRPr>
          </a:p>
        </p:txBody>
      </p:sp>
      <p:sp>
        <p:nvSpPr>
          <p:cNvPr id="93" name="PlaceHolder 2"/>
          <p:cNvSpPr>
            <a:spLocks noGrp="1"/>
          </p:cNvSpPr>
          <p:nvPr>
            <p:ph/>
          </p:nvPr>
        </p:nvSpPr>
        <p:spPr>
          <a:xfrm>
            <a:off x="456840" y="1599840"/>
            <a:ext cx="380988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ph below summarizes the components of costs and benefits of taxes in a private investor scenario.  The benefits include the PTC and accelerated tax depreciation.  The costs are that taxes must be paid on profits.  This has a large negative effect in the later years of the project lif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Picture 6" descr=""/>
          <p:cNvPicPr/>
          <p:nvPr/>
        </p:nvPicPr>
        <p:blipFill>
          <a:blip r:embed="rId1"/>
          <a:stretch/>
        </p:blipFill>
        <p:spPr>
          <a:xfrm>
            <a:off x="4267080" y="3048120"/>
            <a:ext cx="4572000" cy="25588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lements of the Cash Flow Waterfall</a:t>
            </a:r>
            <a:endParaRPr b="0" lang="en-US" sz="3200" spc="-1" strike="noStrike">
              <a:solidFill>
                <a:srgbClr val="0000ff"/>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model must measure risks of different tranches of debt rather than a single senior debt issue.  Examples of issues that involve modeling includ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junior deb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covenants and debt service reserves affect the risk of junior deb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repayment structure of junior debt – after the senior debt is fully repaid or befor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venants and debt service reserves should be in place for junior deb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strictions should be placed on junior debt service to protect senior deb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h Flow Waterfall</a:t>
            </a:r>
            <a:endParaRPr b="0" lang="en-US" sz="3200" spc="-1" strike="noStrike">
              <a:solidFill>
                <a:srgbClr val="0000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fall Issues</a:t>
            </a:r>
            <a:endParaRPr b="0" lang="en-US" sz="2000" spc="-1" strike="noStrike">
              <a:solidFill>
                <a:srgbClr val="000000"/>
              </a:solidFill>
              <a:latin typeface="Arial"/>
            </a:endParaRPr>
          </a:p>
          <a:p>
            <a:pPr lvl="1" marL="102888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s and subsequent repayments of defaults before dividend distributions</a:t>
            </a:r>
            <a:endParaRPr b="0" lang="en-US" sz="2000" spc="-1" strike="noStrike">
              <a:solidFill>
                <a:srgbClr val="000000"/>
              </a:solidFill>
              <a:latin typeface="Arial"/>
            </a:endParaRPr>
          </a:p>
          <a:p>
            <a:pPr lvl="1" marL="102888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different priorities of debt</a:t>
            </a:r>
            <a:endParaRPr b="0" lang="en-US" sz="2000" spc="-1" strike="noStrike">
              <a:solidFill>
                <a:srgbClr val="000000"/>
              </a:solidFill>
              <a:latin typeface="Arial"/>
            </a:endParaRPr>
          </a:p>
          <a:p>
            <a:pPr lvl="1" marL="102888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cash flow trap mechanisms</a:t>
            </a:r>
            <a:endParaRPr b="0" lang="en-US" sz="2000" spc="-1" strike="noStrike">
              <a:solidFill>
                <a:srgbClr val="000000"/>
              </a:solidFill>
              <a:latin typeface="Arial"/>
            </a:endParaRPr>
          </a:p>
          <a:p>
            <a:pPr lvl="1" marL="102888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e-payments from covenant violations</a:t>
            </a:r>
            <a:endParaRPr b="0" lang="en-US" sz="2000" spc="-1" strike="noStrike">
              <a:solidFill>
                <a:srgbClr val="000000"/>
              </a:solidFill>
              <a:latin typeface="Arial"/>
            </a:endParaRPr>
          </a:p>
          <a:p>
            <a:pPr lvl="1" marL="102888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Debt service reserve injections and withdrawls</a:t>
            </a:r>
            <a:endParaRPr b="0" lang="en-US" sz="2000" spc="-1" strike="noStrike">
              <a:solidFill>
                <a:srgbClr val="000000"/>
              </a:solidFill>
              <a:latin typeface="Arial"/>
            </a:endParaRPr>
          </a:p>
          <a:p>
            <a:pPr lvl="1" marL="102888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ion of debt service reserve after construction perio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unds obvious, but the order of the model should be the same as the order of the waterfal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ubtotals at many different places to evaluate defaults, balances for sweeps, covenants</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h Flow Waterfall in Project Finance Model</a:t>
            </a:r>
            <a:endParaRPr b="0" lang="en-US" sz="3200" spc="-1" strike="noStrike">
              <a:solidFill>
                <a:srgbClr val="0000ff"/>
              </a:solidFill>
              <a:latin typeface="Arial"/>
            </a:endParaRPr>
          </a:p>
        </p:txBody>
      </p:sp>
      <p:pic>
        <p:nvPicPr>
          <p:cNvPr id="267" name="Picture 3" descr=""/>
          <p:cNvPicPr/>
          <p:nvPr/>
        </p:nvPicPr>
        <p:blipFill>
          <a:blip r:embed="rId1"/>
          <a:stretch/>
        </p:blipFill>
        <p:spPr>
          <a:xfrm>
            <a:off x="1003320" y="1295280"/>
            <a:ext cx="7137360" cy="487692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h Flow Priorities</a:t>
            </a:r>
            <a:endParaRPr b="0" lang="en-US" sz="3200" spc="-1" strike="noStrike">
              <a:solidFill>
                <a:srgbClr val="0000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cash flow for the waterfall is computed, you can compute the defaults on senior and junior deb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scheduled interest payments and maturities from the cash flow for waterfal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ubtract attempts to re-pay earlier defaul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efaults are added to cash flow to determine the cash flow to junior deb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Senior</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s</a:t>
            </a:r>
            <a:endParaRPr b="0" lang="en-US" sz="10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Default on Senior Debt</a:t>
            </a:r>
            <a:endParaRPr b="0" lang="en-US" sz="10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Junior</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a:t>
            </a:r>
            <a:endParaRPr b="0" lang="en-US" sz="1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h Flow Traps and Dividends</a:t>
            </a:r>
            <a:endParaRPr b="0" lang="en-US" sz="3200" spc="-1" strike="noStrike">
              <a:solidFill>
                <a:srgbClr val="0000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junior debt is evaluated, traps on cash and distributions can be evaluated.</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Traps can be evaluated at this point that prevent excess cash going dividends before debt is paid</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tep of the waterfall is illustrated below:</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Flow after Junior Debt</a:t>
            </a:r>
            <a:endParaRPr b="0" lang="en-US" sz="2000" spc="-1" strike="noStrike">
              <a:solidFill>
                <a:srgbClr val="000000"/>
              </a:solidFill>
              <a:latin typeface="Arial"/>
            </a:endParaRPr>
          </a:p>
          <a:p>
            <a:pPr lvl="3" marL="153612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Default on Junior Debt</a:t>
            </a:r>
            <a:endParaRPr b="0" lang="en-US" sz="2000" spc="-1" strike="noStrike">
              <a:solidFill>
                <a:srgbClr val="000000"/>
              </a:solidFill>
              <a:latin typeface="Arial"/>
            </a:endParaRPr>
          </a:p>
          <a:p>
            <a:pPr lvl="3" marL="153612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ash Balance Added Above</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Cash Flow</a:t>
            </a:r>
            <a:endParaRPr b="0" lang="en-US" sz="2000" spc="-1" strike="noStrike">
              <a:solidFill>
                <a:srgbClr val="000000"/>
              </a:solidFill>
              <a:latin typeface="Arial"/>
            </a:endParaRPr>
          </a:p>
          <a:p>
            <a:pPr lvl="3" marL="153612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for Trapping Cash</a:t>
            </a:r>
            <a:endParaRPr b="0" lang="en-US" sz="2000" spc="-1" strike="noStrike">
              <a:solidFill>
                <a:srgbClr val="000000"/>
              </a:solidFill>
              <a:latin typeface="Arial"/>
            </a:endParaRPr>
          </a:p>
          <a:p>
            <a:pPr lvl="3" marL="153612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ash Trapped</a:t>
            </a:r>
            <a:endParaRPr b="0" lang="en-US" sz="2000" spc="-1" strike="noStrike">
              <a:solidFill>
                <a:srgbClr val="000000"/>
              </a:solidFill>
              <a:latin typeface="Arial"/>
            </a:endParaRPr>
          </a:p>
          <a:p>
            <a:pPr lvl="3" marL="153612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Cash Withdrawn from Accou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nd Distributions</a:t>
            </a:r>
            <a:endParaRPr b="0" lang="en-US" sz="2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uting Cash Flow for the Waterfall</a:t>
            </a:r>
            <a:endParaRPr b="0" lang="en-US" sz="3200" spc="-1" strike="noStrike">
              <a:solidFill>
                <a:srgbClr val="0000ff"/>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800" spc="-1" strike="noStrike">
              <a:solidFill>
                <a:srgbClr val="000000"/>
              </a:solidFill>
              <a:latin typeface="Arial"/>
            </a:endParaRPr>
          </a:p>
          <a:p>
            <a:pPr lvl="1" marL="977760" indent="-1774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77760" indent="-1774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77760" indent="-1774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77760" indent="-1774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Debt Issues</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Equity Issues</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tal Interest Expense</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eginning Cash Balance</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s of Cash Flow Cascades</a:t>
            </a:r>
            <a:endParaRPr b="0" lang="en-US" sz="3200" spc="-1" strike="noStrike">
              <a:solidFill>
                <a:srgbClr val="0000ff"/>
              </a:solidFill>
              <a:latin typeface="Arial"/>
            </a:endParaRPr>
          </a:p>
        </p:txBody>
      </p:sp>
      <p:sp>
        <p:nvSpPr>
          <p:cNvPr id="2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Picture 5" descr=""/>
          <p:cNvPicPr/>
          <p:nvPr/>
        </p:nvPicPr>
        <p:blipFill>
          <a:blip r:embed="rId1"/>
          <a:stretch/>
        </p:blipFill>
        <p:spPr>
          <a:xfrm>
            <a:off x="914400" y="1905120"/>
            <a:ext cx="3471840" cy="3335040"/>
          </a:xfrm>
          <a:prstGeom prst="rect">
            <a:avLst/>
          </a:prstGeom>
          <a:ln w="0">
            <a:noFill/>
          </a:ln>
        </p:spPr>
      </p:pic>
      <p:pic>
        <p:nvPicPr>
          <p:cNvPr id="278" name="Picture 6" descr=""/>
          <p:cNvPicPr/>
          <p:nvPr/>
        </p:nvPicPr>
        <p:blipFill>
          <a:blip r:embed="rId2"/>
          <a:stretch/>
        </p:blipFill>
        <p:spPr>
          <a:xfrm>
            <a:off x="5486400" y="1600200"/>
            <a:ext cx="2281320" cy="378144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 of Cash Flow Cascade - 2</a:t>
            </a:r>
            <a:endParaRPr b="0" lang="en-US" sz="3200" spc="-1" strike="noStrike">
              <a:solidFill>
                <a:srgbClr val="0000ff"/>
              </a:solidFill>
              <a:latin typeface="Arial"/>
            </a:endParaRPr>
          </a:p>
        </p:txBody>
      </p:sp>
      <p:pic>
        <p:nvPicPr>
          <p:cNvPr id="280" name="Picture 3" descr=""/>
          <p:cNvPicPr/>
          <p:nvPr/>
        </p:nvPicPr>
        <p:blipFill>
          <a:blip r:embed="rId1"/>
          <a:stretch/>
        </p:blipFill>
        <p:spPr>
          <a:xfrm>
            <a:off x="457200" y="1600200"/>
            <a:ext cx="4038480" cy="4525920"/>
          </a:xfrm>
          <a:prstGeom prst="rect">
            <a:avLst/>
          </a:prstGeom>
          <a:ln w="0">
            <a:noFill/>
          </a:ln>
        </p:spPr>
      </p:pic>
      <p:pic>
        <p:nvPicPr>
          <p:cNvPr id="281" name="Picture 4" descr=""/>
          <p:cNvPicPr/>
          <p:nvPr/>
        </p:nvPicPr>
        <p:blipFill>
          <a:blip r:embed="rId2"/>
          <a:stretch/>
        </p:blipFill>
        <p:spPr>
          <a:xfrm>
            <a:off x="4648320" y="1600200"/>
            <a:ext cx="4038480" cy="45259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stributions to Equity Holders and Flip Structures</a:t>
            </a:r>
            <a:endParaRPr b="0" lang="en-US" sz="3200" spc="-1" strike="noStrike">
              <a:solidFill>
                <a:srgbClr val="0000ff"/>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distributions to equity holders are straightforward to compute – the distributions are whatever is left over after all other cash distribution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p structures can be more complex:</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certain rate of return is achieved, the cash flow is distributed differently between the two investors:</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Criteria is 10%</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10%, 99% to one investor and 1% to second investor</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10%, 30% to one investor and 70% to second investor</a:t>
            </a:r>
            <a:endParaRPr b="0" lang="en-US" sz="1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compute the IRR on a cumulative basis and then change the payouts</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is in the year of the change in payout</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solution is to compute the future value of payouts</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with two payouts, but trick with dividends imbetween</a:t>
            </a:r>
            <a:endParaRPr b="0"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bt Structure Case Studies</a:t>
            </a:r>
            <a:endParaRPr b="0" lang="en-US" sz="3200" spc="-1" strike="noStrike">
              <a:solidFill>
                <a:srgbClr val="0000ff"/>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alyzing the transaction, Standard &amp; Poor's performed many sensitivities on plant availability and merchant prices to determine a range of potential outstanding debt amounts at maturit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scenario assumes that the merchant market deteriorates such that the plant cannot carry its debt burden. In each of the recovery scenarios analyzed, payments on the contracts are used to amortize debt according to the 75% cash sweep requirement during the contract perio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termination of the contracts, the net present value of the cash flow available for debt service under various discount factors was compared with the outstanding debt amoun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lien loans enjoy 100% recovery even under Standard &amp; Poor's low price scenario. However, since the lending documents allow payment of any principal on the second-lien term loan only after completely paying down the first-lien term loan, remaining cash is only expected to provide recovery on the second lien term of 50% to 80%.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ternative Tax Cases</a:t>
            </a:r>
            <a:endParaRPr b="0" lang="en-US" sz="3200" spc="-1" strike="noStrike">
              <a:solidFill>
                <a:srgbClr val="0000ff"/>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alysis in the adjacent chart shows tax benefits in three alternative ca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1: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Cas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2: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Capacity Factor, Lower Electricity Rate and Higher Cos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3:</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apacity Factor, Higher Electricity Rate and Lower Cos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Significant swing in valu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Picture 16" descr=""/>
          <p:cNvPicPr/>
          <p:nvPr/>
        </p:nvPicPr>
        <p:blipFill>
          <a:blip r:embed="rId1"/>
          <a:stretch/>
        </p:blipFill>
        <p:spPr>
          <a:xfrm>
            <a:off x="4800600" y="1219320"/>
            <a:ext cx="3124080" cy="1747800"/>
          </a:xfrm>
          <a:prstGeom prst="rect">
            <a:avLst/>
          </a:prstGeom>
          <a:ln w="0">
            <a:noFill/>
          </a:ln>
        </p:spPr>
      </p:pic>
      <p:pic>
        <p:nvPicPr>
          <p:cNvPr id="98" name="Picture 18" descr=""/>
          <p:cNvPicPr/>
          <p:nvPr/>
        </p:nvPicPr>
        <p:blipFill>
          <a:blip r:embed="rId2"/>
          <a:stretch/>
        </p:blipFill>
        <p:spPr>
          <a:xfrm>
            <a:off x="4800600" y="3048120"/>
            <a:ext cx="3146400" cy="1761840"/>
          </a:xfrm>
          <a:prstGeom prst="rect">
            <a:avLst/>
          </a:prstGeom>
          <a:ln w="0">
            <a:noFill/>
          </a:ln>
        </p:spPr>
      </p:pic>
      <p:pic>
        <p:nvPicPr>
          <p:cNvPr id="99" name="Picture 20" descr=""/>
          <p:cNvPicPr/>
          <p:nvPr/>
        </p:nvPicPr>
        <p:blipFill>
          <a:blip r:embed="rId3"/>
          <a:stretch/>
        </p:blipFill>
        <p:spPr>
          <a:xfrm>
            <a:off x="4800600" y="4876920"/>
            <a:ext cx="3214800" cy="1800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quity Returns and Re-Financing</a:t>
            </a:r>
            <a:endParaRPr b="0" lang="en-US" sz="3200" spc="-1" strike="noStrike">
              <a:solidFill>
                <a:srgbClr val="0000ff"/>
              </a:solidFill>
              <a:latin typeface="Arial"/>
            </a:endParaRPr>
          </a:p>
        </p:txBody>
      </p:sp>
      <p:pic>
        <p:nvPicPr>
          <p:cNvPr id="287" name="Picture 4" descr=""/>
          <p:cNvPicPr/>
          <p:nvPr/>
        </p:nvPicPr>
        <p:blipFill>
          <a:blip r:embed="rId1"/>
          <a:stretch/>
        </p:blipFill>
        <p:spPr>
          <a:xfrm>
            <a:off x="1541520" y="1523880"/>
            <a:ext cx="6289560" cy="457200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financing Analysis</a:t>
            </a:r>
            <a:endParaRPr b="0" lang="en-US" sz="3200" spc="-1" strike="noStrike">
              <a:solidFill>
                <a:srgbClr val="0000ff"/>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inancing of Deb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source and use 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criteria or input for new financing and the DSCR on the new financ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fees and pre-payment penalties in sources and use 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new debt issues in debt schedule and line for re-payment of existing debt issu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onents of Cash Flow for U.S. Project</a:t>
            </a:r>
            <a:endParaRPr b="0" lang="en-US" sz="3200" spc="-1" strike="noStrike">
              <a:solidFill>
                <a:srgbClr val="0000ff"/>
              </a:solidFill>
              <a:latin typeface="Arial"/>
            </a:endParaRPr>
          </a:p>
        </p:txBody>
      </p:sp>
      <p:pic>
        <p:nvPicPr>
          <p:cNvPr id="101" name="Picture 3" descr=""/>
          <p:cNvPicPr/>
          <p:nvPr/>
        </p:nvPicPr>
        <p:blipFill>
          <a:blip r:embed="rId1"/>
          <a:stretch/>
        </p:blipFill>
        <p:spPr>
          <a:xfrm>
            <a:off x="800280" y="1600200"/>
            <a:ext cx="75438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olesale Power Rates and Net Metering Rates</a:t>
            </a:r>
            <a:endParaRPr b="0" lang="en-US" sz="3200" spc="-1" strike="noStrike">
              <a:solidFill>
                <a:srgbClr val="0000ff"/>
              </a:solidFill>
              <a:latin typeface="Arial"/>
            </a:endParaRPr>
          </a:p>
        </p:txBody>
      </p:sp>
      <p:sp>
        <p:nvSpPr>
          <p:cNvPr id="10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legislation known as the Green Communities Act was recently signed into law allows the energy produced at customer-sited generation facilities of up to 2 MW to be sold to the grid as if it were offsetting the energy used at the customer’s meter.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ous Massachusetts law only allowed facilities of up to 60 kW to benefit from net metering while for larger facilities only the portion of the production that coincided with load could be credited at the retail ra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municipality can net meter up to 10 MW of generating capacity, provided that no individual unit exceeds 2 MW.</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the legislation, the net metering credit for generation used to offset load at a customer’s meter is credited at a rate equal to the “default service kilowatt-hour charge in the ISO-NE load zone where the customer is located.</a:t>
            </a:r>
            <a:endParaRPr b="0" lang="en-US" sz="1400" spc="-1" strike="noStrike">
              <a:solidFill>
                <a:srgbClr val="000000"/>
              </a:solidFill>
              <a:latin typeface="Arial"/>
            </a:endParaRPr>
          </a:p>
        </p:txBody>
      </p:sp>
      <p:pic>
        <p:nvPicPr>
          <p:cNvPr id="104" name="Picture 4" descr=""/>
          <p:cNvPicPr/>
          <p:nvPr/>
        </p:nvPicPr>
        <p:blipFill>
          <a:blip r:embed="rId1"/>
          <a:stretch/>
        </p:blipFill>
        <p:spPr>
          <a:xfrm>
            <a:off x="4648320" y="1616040"/>
            <a:ext cx="4038480" cy="2152800"/>
          </a:xfrm>
          <a:prstGeom prst="rect">
            <a:avLst/>
          </a:prstGeom>
          <a:ln w="0">
            <a:noFill/>
          </a:ln>
        </p:spPr>
      </p:pic>
      <p:pic>
        <p:nvPicPr>
          <p:cNvPr id="105" name="Picture 5" descr=""/>
          <p:cNvPicPr/>
          <p:nvPr/>
        </p:nvPicPr>
        <p:blipFill>
          <a:blip r:embed="rId2"/>
          <a:stretch/>
        </p:blipFill>
        <p:spPr>
          <a:xfrm>
            <a:off x="4648320" y="4363920"/>
            <a:ext cx="4038480" cy="133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9:36:25Z</dcterms:created>
  <dc:creator>Elvis Presley</dc:creator>
  <dc:description/>
  <dc:language>en-US</dc:language>
  <cp:lastModifiedBy>Elvis Presley</cp:lastModifiedBy>
  <dcterms:modified xsi:type="dcterms:W3CDTF">2010-05-06T18:43:08Z</dcterms:modified>
  <cp:revision>294</cp:revision>
  <dc:subject/>
  <dc:title>Slide 1</dc:title>
</cp:coreProperties>
</file>